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B9E-F6CF-4C23-BDD1-B7B5184E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654C-0A4E-4245-A666-5DC138E3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6501-3598-4715-936F-7ABE4ED1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51D-10ED-446F-B38F-1016F823A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8AD0-5889-4FE9-9A3D-4621966C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BFD4-2269-4CFA-A970-4C2EEB5C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125B-86CA-473B-9F46-F3A71532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1D9B4-4289-4F37-AEBE-F9E290B2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D116-0925-4DEF-85F3-47BC8D2C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5BBA-9FE1-4445-8574-8F243C87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FC0A-95A7-4D1C-BAD1-1747D606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301-3940-4F62-82A9-F5DE2E32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B0CE-F46D-4D8B-9663-36D491B9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8A17-2523-4530-BB33-DB5601E9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A29B-4411-4F3C-8338-65B3629C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5738-648F-4859-9228-14C7C4F4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1398-222E-4F89-8DA1-CAB5C8FF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244EE-83DE-4DF6-B363-61EC820B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22121-CAA4-45F8-B542-712D9C08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E84A7-2748-4941-807B-EC6242CF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02ECF-1138-4780-9C69-FB90B141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03680-9A55-4E57-9815-85275001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363-620F-430D-A38A-36409298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758B3-EA56-4058-BFAF-3310912D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C5622-F08A-472E-9466-ECCB97DF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02CEB-2DFB-4A7A-9BA5-8CB93AF0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943E7-9657-4306-B112-83E921F8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2AF40-B278-4E0C-BB04-4B9F5386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18475-8F37-4705-B833-3BC4F86C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408ED-C860-4C83-952D-76A0F02B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8AA4D-557E-4C7A-8936-CE794203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D7A48-B384-48C7-86A3-F1BAAA24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0DCDF-4734-4056-9022-15C32DB5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0FB-971F-4664-9456-470BB80A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06D47-8A31-484D-B2FC-92D57215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10972-608B-40FC-98FD-A60CED83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126B-D75F-44E4-84C0-D54C8C59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8CCD6-528B-4123-A8AF-CEE98669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1F0EB-7C47-476C-80E2-03C9DA22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1CBCF-133A-433C-91E0-BB8397A4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3EEF8-3431-413D-AF85-6F75D1FE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0D2B5-ADE9-4282-9A1A-D63B841C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2F5EF-B942-42CB-89A2-F1443EBF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0DA60-9C8B-4D10-A9AD-A5020C3E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983-BD89-498D-9413-0123A1BF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F19CF-DE42-4A5B-8AE3-60C966A8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FB818-588E-42B9-B425-F280B0A0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44CCF-CCB4-4B19-B4B8-B4B4C64B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9EC22-7B3D-4AD4-8E3D-312C0780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2ABEE-6B19-4133-807D-547779ED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1362F-1996-4D16-8110-AF6BB0A7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4339C-AAF6-4745-A58B-8F4F5D54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A26D8-6442-42EB-AF8A-E5FD36BE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F319F-8832-4098-9EBF-4B204240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13D21-0AFC-4CFF-AD7C-5DE0176C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071D-25B1-4E58-A1FB-5237F0D1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9B59D-F0A2-4762-BA0D-785B7752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00391-2190-4CF0-824C-109C41FD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E49A8-33F3-4994-BB45-BB4BDD81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836F4-547B-49B8-9411-69591F3F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5E950-E999-4760-BAD7-FD9DA49A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C0548-A6B5-4623-99FD-0DD892F2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38F6E-759C-4F9F-9E90-EA0C806E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B3AF7-36A2-4CC3-8467-C9A929BA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469A2-5726-41A7-BBCF-BA804297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EFD77-2F26-4FAF-A34E-3A3C36E1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CED5-CB14-4AA9-9CDE-5AA0B2F2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C2DCB-D765-4387-971F-BDE755A4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6522A-3B9D-4C7D-BCEF-9B491080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5CDF4-2CFB-4992-983F-29B4077D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C45EC-4F0A-449C-B25F-40D25C69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6F600-91B7-4F7C-9AE3-C5082A12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80244-BF24-4108-ACFB-3B87CF7A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715B1-49C8-4C7D-9CC5-FF01CEF0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492DA-D3A2-4118-9181-7D3D55A1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50D79-1F22-4F62-BD07-A1DDCBB1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5E26B-F8A7-40A7-8803-DFAC867F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621-EC1C-4F97-AD0D-A211AB5D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AE7D0-E5A0-4EF7-B9C2-0C027CC6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C5AA5-67AD-4F70-877E-C06FA2F5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D3243-A3F9-4010-B231-4904197A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E2A07-E0A5-43F6-9A91-54468015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3DA89-EFB3-405B-8D6F-080A4D7A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4111-7924-4A7E-A23A-3FCB2950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9A32-02B2-45FC-9EEC-0B04CA3258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70B1-F4FB-4D51-BCDA-94E73726E6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936C-E7BE-44BC-8075-6C5C222F0D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0CF4-3AAC-4969-AAA2-2987816AF5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3181-F160-4BE0-AAEC-0B5C57CBA5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-11160" y="-1116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677F-8FC0-4FFB-930A-03C34D56D4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-11160" y="-1116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5041-4213-4EC4-8B8F-7C752C19C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351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Braintraining les couleurs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ay the colour you see, not the wor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ff"/>
                </a:solidFill>
                <a:latin typeface="Comic Sans MS"/>
              </a:rPr>
              <a:t>jau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rou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ff"/>
                </a:solidFill>
                <a:latin typeface="Comic Sans MS"/>
              </a:rPr>
              <a:t>rou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ff00"/>
                </a:solidFill>
                <a:latin typeface="Comic Sans MS"/>
              </a:rPr>
              <a:t>jau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cc0000"/>
                </a:solidFill>
                <a:latin typeface="Comic Sans MS"/>
              </a:rPr>
              <a:t>ve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33cc33"/>
                </a:solidFill>
                <a:latin typeface="Comic Sans MS"/>
              </a:rPr>
              <a:t>ve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cc0000"/>
                </a:solidFill>
                <a:latin typeface="Comic Sans MS"/>
              </a:rPr>
              <a:t>jau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cc0000"/>
                </a:solidFill>
                <a:latin typeface="Comic Sans MS"/>
              </a:rPr>
              <a:t>noi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33cc33"/>
                </a:solidFill>
                <a:latin typeface="Comic Sans MS"/>
              </a:rPr>
              <a:t>bl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800080"/>
                </a:solidFill>
                <a:latin typeface="Comic Sans MS"/>
              </a:rPr>
              <a:t>rou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ff"/>
                </a:solidFill>
                <a:latin typeface="Comic Sans MS"/>
              </a:rPr>
              <a:t>bl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ff"/>
                </a:solidFill>
                <a:latin typeface="Comic Sans MS"/>
              </a:rPr>
              <a:t>noi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33cc33"/>
                </a:solidFill>
                <a:latin typeface="Comic Sans MS"/>
              </a:rPr>
              <a:t>jau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blan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ff00"/>
                </a:solidFill>
                <a:latin typeface="Comic Sans MS"/>
              </a:rPr>
              <a:t>rou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33cc33"/>
                </a:solidFill>
                <a:latin typeface="Comic Sans MS"/>
              </a:rPr>
              <a:t>rou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800080"/>
                </a:solidFill>
                <a:latin typeface="Comic Sans MS"/>
              </a:rPr>
              <a:t>ve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ff"/>
                </a:solidFill>
                <a:latin typeface="Comic Sans MS"/>
              </a:rPr>
              <a:t>ve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33cc33"/>
                </a:solidFill>
                <a:latin typeface="Comic Sans MS"/>
              </a:rPr>
              <a:t>noi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cc0000"/>
                </a:solidFill>
                <a:latin typeface="Comic Sans MS"/>
              </a:rPr>
              <a:t>jaun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ff00"/>
                </a:solidFill>
                <a:latin typeface="Comic Sans MS"/>
              </a:rPr>
              <a:t>ve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800080"/>
                </a:solidFill>
                <a:latin typeface="Comic Sans MS"/>
              </a:rPr>
              <a:t>ble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roug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cc0000"/>
                </a:solidFill>
                <a:latin typeface="Comic Sans MS"/>
              </a:rPr>
              <a:t>blan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43:28Z</dcterms:created>
  <dc:creator>Jo Rhys-Jones</dc:creator>
  <dc:description>Macro created by quiz@ppt-user.de  Hans Werner Hofmann / Ute Simon</dc:description>
  <cp:keywords>Search Easter Eggs with Drag&amp;Drop-Makro</cp:keywords>
  <dc:language>en-US</dc:language>
  <cp:lastModifiedBy>HIAS</cp:lastModifiedBy>
  <dcterms:modified xsi:type="dcterms:W3CDTF">2009-03-04T14:46:08Z</dcterms:modified>
  <cp:revision>184</cp:revision>
  <dc:subject/>
  <dc:title>Drag&amp;Drop Macro: Easter Eggs</dc:title>
</cp:coreProperties>
</file>